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41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29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3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6B2-9EFE-4DBD-829F-76C0E24B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B00-8DCF-4958-9A73-8A0F1A2C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6D5-EB06-405B-B56A-ECF4C03D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9FC-CA70-4DF1-9B1D-280EC35A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7A540-2FE8-4B9D-A2DC-21BA7FAF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9BB57-DAC4-42BC-A208-66445A66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5F570-A272-408A-9786-2BE6CB8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D3519-FDD0-4290-AD15-8E40DFBC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166E1-FE29-45D0-A511-F4199A6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B901B-88A6-4059-98BD-2ED2633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EAFF0-AEE7-4F4F-8D5B-706DBD6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12F-2A2D-46AC-8D05-10A7912A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29564-6FD0-447B-ADBC-7F8763B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1D828-4F39-42B7-B344-025FFFA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F5E6C-3A0A-4D40-BF65-E30E8EA1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85E04-F153-4065-90F5-5E59F6AF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25255-7705-4566-B08D-7047042B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CC2B-EEA9-4E78-B7EB-0C2AF563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1966C-42D7-4B36-AF0F-FA4B9F2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1B16-CB82-4833-BEBD-61441C3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12B6-ACBE-4260-A20D-FCBCB743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0EF4-6419-4CC1-B6EB-A2712E6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178-4EED-4CAC-8C23-D88E0C9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D3D4-624A-44B1-B1EA-D9517D96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B8B9-2C65-413F-A3C5-6A19BC5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24B2-E763-494B-A378-21250A7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4DAF-A4BE-48AA-9F86-679A25D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4F21-40F6-4A2F-B6A7-CDC877D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EDF6-65ED-45E1-B40D-AD987C4B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6A23-80F6-454B-B7EB-EB20E3E0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9FA9A-26E4-416B-BD40-8C562A3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9B187D-2EBA-4727-AAF8-3B0C23CD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D6475-C598-4236-BCCF-D40AF8E5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4A2-C18D-4A5F-80C8-B4B8FC9A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21E21-3273-4F76-ABBA-1AD114A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B746F-CDF0-435E-97D5-62F3876F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5BECE-4D52-44FB-852F-4576F384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3D41B-0AF4-499C-A2A1-2A1464C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F40A0-9E9B-41F2-B084-CCAA094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607C9-E908-43CC-8CD1-71BAE90F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E8A74-0BDC-4976-A938-DD65078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92BD4-E7A1-48D0-B604-D464F08D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5254E-3790-4C40-BC10-124313D6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5FA67-0E8E-4BA2-8CE5-68E5D80F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858-9519-4CC5-B17B-BEFC63B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47DE9-DAA1-46B3-B72E-F8FE26A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30289-8E57-464D-9275-A40D96A7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365FF-DBC8-42C2-8C98-C5F8B65B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C6A9A-58A5-4D37-A29D-B6EA2091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6FD6A-C511-4434-AC4F-9B28F659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E5303-7D65-40D8-90BC-1EE799D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680F1-790F-4DE1-BD28-249B139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BA8FF-D1DC-4D32-B9BF-974AD14E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70CDC-6753-4A5D-A994-3C8068E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2379C-F1B5-45C0-8578-3019054F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A4B-A5B5-4508-A63D-FA01FB4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97E0A-808F-4EF2-ABC2-C374C155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180C1-D277-42B2-8252-50A07F3E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3DB2C-4E7C-4A2F-BB14-2E0A1BC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14316-E544-42D8-AE69-77E9E87E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E1D88-CE4D-43F4-833B-9E6E7CFC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217F2-1336-4D29-837C-5D9E83C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269E4-BCE6-4756-8E27-85E79068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E2349-7963-4AD1-9347-99481B0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5A542-F4EF-453C-A67D-D9FFA17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2F7C9-64CB-43F7-AA42-0B1EA0C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BF5-EFF8-41CE-A37D-065F091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00B08-78E5-46AD-8947-DCBE6EFD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CE15F-9B04-4C07-97B4-F2F837EB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4CE91-9F8C-44C1-A458-5D7DBE8C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99D-42DB-49BE-98A9-417CD175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880-4D8D-4842-8CA0-984FBFB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8ED-20A3-48D3-B61D-08947544BC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57FD-47FB-4B55-B0E3-2A8B3AFE952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E74-ECBE-41E2-ADE0-A02E6318D25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8D5-FDD1-48EC-BD0A-67E3BB484D6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EA6-4703-459B-B133-3934D38DFE3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31C1-C75E-49D1-97AD-499FBBA4A65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1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714480" y="3571920"/>
            <a:ext cx="40575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Выполнил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Учитель МОУ ООШ №2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Саблукова Е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г. Б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3a447"/>
                </a:solidFill>
                <a:latin typeface="Comic Sans MS"/>
              </a:rPr>
              <a:t>201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848520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643360" y="2356920"/>
            <a:ext cx="35002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читание богов – покровителей плодород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Documents and Settings\ADMIN\Мои документы\Мои рисунки\f261f69b6b88a23f2ac48b93e6fb8b71.jpg"/>
          <p:cNvPicPr/>
          <p:nvPr/>
        </p:nvPicPr>
        <p:blipFill>
          <a:blip r:embed="rId2"/>
          <a:stretch/>
        </p:blipFill>
        <p:spPr>
          <a:xfrm>
            <a:off x="357120" y="1428840"/>
            <a:ext cx="276552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1" name="Picture 3" descr="C:\Documents and Settings\ADMIN\Мои документы\Мои рисунки\3b5a11b991c5e3a67d57bee3d82.jpg"/>
          <p:cNvPicPr/>
          <p:nvPr/>
        </p:nvPicPr>
        <p:blipFill>
          <a:blip r:embed="rId3"/>
          <a:stretch/>
        </p:blipFill>
        <p:spPr>
          <a:xfrm>
            <a:off x="1285920" y="1643040"/>
            <a:ext cx="26766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2" descr="C:\Documents and Settings\ADMIN\Мои документы\Мои рисунки\98f32e7fe9b0.jpg"/>
          <p:cNvPicPr/>
          <p:nvPr/>
        </p:nvPicPr>
        <p:blipFill>
          <a:blip r:embed="rId4"/>
          <a:stretch/>
        </p:blipFill>
        <p:spPr>
          <a:xfrm>
            <a:off x="2000160" y="2000160"/>
            <a:ext cx="28083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Picture 4" descr="C:\Documents and Settings\ADMIN\Мои документы\Мои рисунки\3d282-5878cb824a67.jpg"/>
          <p:cNvPicPr/>
          <p:nvPr/>
        </p:nvPicPr>
        <p:blipFill>
          <a:blip r:embed="rId5"/>
          <a:stretch/>
        </p:blipFill>
        <p:spPr>
          <a:xfrm>
            <a:off x="2857680" y="2357280"/>
            <a:ext cx="3000240" cy="39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143680" y="1143000"/>
            <a:ext cx="36432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ru-RU" sz="3600" spc="-1" strike="noStrike">
                <a:solidFill>
                  <a:srgbClr val="fefac9"/>
                </a:solidFill>
                <a:latin typeface="Comic Sans MS"/>
              </a:rPr>
              <a:t>Преклонение перед тем или иным растением, восприятие его как священного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Documents and Settings\ADMIN\Мои документы\Мои рисунки\44810241_073208_558.jpg"/>
          <p:cNvPicPr/>
          <p:nvPr/>
        </p:nvPicPr>
        <p:blipFill>
          <a:blip r:embed="rId2"/>
          <a:stretch/>
        </p:blipFill>
        <p:spPr>
          <a:xfrm>
            <a:off x="428760" y="1214280"/>
            <a:ext cx="2286000" cy="32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4" descr="C:\Documents and Settings\ADMIN\Мои документы\Мои рисунки\3223835_large.jpg"/>
          <p:cNvPicPr/>
          <p:nvPr/>
        </p:nvPicPr>
        <p:blipFill>
          <a:blip r:embed="rId3"/>
          <a:stretch/>
        </p:blipFill>
        <p:spPr>
          <a:xfrm>
            <a:off x="3071880" y="1143000"/>
            <a:ext cx="20718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8" name="Picture 5" descr="C:\Documents and Settings\ADMIN\Мои документы\Мои рисунки\quararibea_blossom_maya.jpg"/>
          <p:cNvPicPr/>
          <p:nvPr/>
        </p:nvPicPr>
        <p:blipFill>
          <a:blip r:embed="rId4"/>
          <a:stretch/>
        </p:blipFill>
        <p:spPr>
          <a:xfrm>
            <a:off x="428760" y="4643280"/>
            <a:ext cx="4857480" cy="20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643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Фетишизм - вера в магические свойства предметов: куски дерева, различные фигурки, камни, амулеты и т. п.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Documents and Settings\ADMIN\Мои документы\Старые документы\Мои документы\Лена\Религии России\картинки\Drevnii_Hudojnik.jpg"/>
          <p:cNvPicPr/>
          <p:nvPr/>
        </p:nvPicPr>
        <p:blipFill>
          <a:blip r:embed="rId2"/>
          <a:stretch/>
        </p:blipFill>
        <p:spPr>
          <a:xfrm>
            <a:off x="357120" y="1857240"/>
            <a:ext cx="30672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857320" y="1213920"/>
            <a:ext cx="607212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efac9"/>
                </a:solidFill>
                <a:latin typeface="Comic Sans MS"/>
              </a:rPr>
              <a:t>Фетиш – </a:t>
            </a:r>
            <a:r>
              <a:rPr b="1" lang="ru-RU" sz="2400" spc="-1" strike="noStrike">
                <a:solidFill>
                  <a:srgbClr val="fefac9"/>
                </a:solidFill>
                <a:latin typeface="Comic Sans MS"/>
              </a:rPr>
              <a:t>это предмет, наделенный человеком таинственной  сверхъестественной силой. Древний человек верил в то, что фетиш может защищать от болезней, нечистой силы, приносить удачу, победу. Фетишем мог стать любой предмет, с которым человеку однажды пришла удача. Фетиш мог иметь не только личный, но и общественный характер (гора, дерево, валун и др.), он оберегал и защищал все племя, целый народ. Позднее стали создавать искусственные фетиш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Documents and Settings\ADMIN\Мои документы\Старые документы\Мои документы\Лена\Религии России\картинки\f65eaec0f850.jpg"/>
          <p:cNvPicPr/>
          <p:nvPr/>
        </p:nvPicPr>
        <p:blipFill>
          <a:blip r:embed="rId2"/>
          <a:stretch/>
        </p:blipFill>
        <p:spPr>
          <a:xfrm>
            <a:off x="285840" y="4143240"/>
            <a:ext cx="264312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5" name="Picture 4" descr="C:\Documents and Settings\ADMIN\Мои документы\Старые документы\Мои документы\Лена\Религии России\картинки\letkam4.jpg"/>
          <p:cNvPicPr/>
          <p:nvPr/>
        </p:nvPicPr>
        <p:blipFill>
          <a:blip r:embed="rId3"/>
          <a:stretch/>
        </p:blipFill>
        <p:spPr>
          <a:xfrm>
            <a:off x="214200" y="1357200"/>
            <a:ext cx="264348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214520" y="1523520"/>
            <a:ext cx="4714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Предметы, обладающие магической силой, стали называться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амулетами (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от латинского «отстранять», «отвращать»), которые  оберегали своего хозяина от бед и несчаст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ADMIN\Мои документы\Старые документы\Мои документы\Лена\Религии России\картинки\1267832849315810034.jpg"/>
          <p:cNvPicPr/>
          <p:nvPr/>
        </p:nvPicPr>
        <p:blipFill>
          <a:blip r:embed="rId2"/>
          <a:srcRect l="0" t="0" r="0" b="14764"/>
          <a:stretch/>
        </p:blipFill>
        <p:spPr>
          <a:xfrm>
            <a:off x="357120" y="1571760"/>
            <a:ext cx="3522600" cy="43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714480" y="1523520"/>
            <a:ext cx="542916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Способность предотвращать беду и приносить удачу приписывали и </a:t>
            </a:r>
            <a:r>
              <a:rPr b="1" i="1" lang="ru-RU" sz="2600" spc="-1" strike="noStrike">
                <a:solidFill>
                  <a:srgbClr val="fefac9"/>
                </a:solidFill>
                <a:latin typeface="Comic Sans MS"/>
              </a:rPr>
              <a:t>талисманам</a:t>
            </a:r>
            <a:r>
              <a:rPr b="1" lang="ru-RU" sz="2600" spc="-1" strike="noStrike">
                <a:solidFill>
                  <a:srgbClr val="fefac9"/>
                </a:solidFill>
                <a:latin typeface="Comic Sans MS"/>
              </a:rPr>
              <a:t> (греч. «посвящение»). Различие заключалось в том, что амулеты носили открыто, а талисманы прятали от посторонних глаз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C:\Documents and Settings\ADMIN\Мои документы\Старые документы\Мои документы\Лена\Религии России\картинки\pl03.jpg"/>
          <p:cNvPicPr/>
          <p:nvPr/>
        </p:nvPicPr>
        <p:blipFill>
          <a:blip r:embed="rId2"/>
          <a:stretch/>
        </p:blipFill>
        <p:spPr>
          <a:xfrm>
            <a:off x="571680" y="1571760"/>
            <a:ext cx="321444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3600" spc="-1" strike="noStrike">
                <a:solidFill>
                  <a:srgbClr val="f3a447"/>
                </a:solidFill>
                <a:latin typeface="Comic Sans MS"/>
              </a:rPr>
              <a:t>Задачи урок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ыяснить, что такое анимизм, тотемизм, фетишиз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Узнать, что такое первобытные культы, как они появилис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667720" cy="208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285800" y="1599840"/>
            <a:ext cx="4643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ервобытные верования – первая ступень в развитии религий. Как разнообразна природа и занятия людей, так разнообразны и причудливы верования первобытных люде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08080" y="146160"/>
            <a:ext cx="8485200" cy="123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Старые документы\Мои документы\Лена\Религии России\картинки\ohota.jpg"/>
          <p:cNvPicPr/>
          <p:nvPr/>
        </p:nvPicPr>
        <p:blipFill>
          <a:blip r:embed="rId2">
            <a:lum bright="-26000"/>
          </a:blip>
          <a:stretch/>
        </p:blipFill>
        <p:spPr>
          <a:xfrm>
            <a:off x="214200" y="1785960"/>
            <a:ext cx="314352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2" descr="C:\Documents and Settings\ADMIN\Мои документы\Старые документы\Мои документы\Лена\Религии России\картинки\drevn.gif"/>
          <p:cNvPicPr/>
          <p:nvPr/>
        </p:nvPicPr>
        <p:blipFill>
          <a:blip r:embed="rId3"/>
          <a:stretch/>
        </p:blipFill>
        <p:spPr>
          <a:xfrm>
            <a:off x="1357200" y="3714840"/>
            <a:ext cx="267012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5776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Тотемизм – это обряды и верования, связанные с поклонением древнего человека животным и растениям как своим мифическим предкам и защитника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240760" cy="89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Documents and Settings\ADMIN\Мои документы\Старые документы\Мои документы\Лена\Религии России\картинки\f_15414243.jpg"/>
          <p:cNvPicPr/>
          <p:nvPr/>
        </p:nvPicPr>
        <p:blipFill>
          <a:blip r:embed="rId2"/>
          <a:stretch/>
        </p:blipFill>
        <p:spPr>
          <a:xfrm>
            <a:off x="357120" y="1428840"/>
            <a:ext cx="3286080" cy="39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Picture 3" descr="C:\Documents and Settings\ADMIN\Мои документы\Старые документы\Мои документы\Лена\Религии России\картинки\totem.jpg"/>
          <p:cNvPicPr/>
          <p:nvPr/>
        </p:nvPicPr>
        <p:blipFill>
          <a:blip r:embed="rId3"/>
          <a:stretch/>
        </p:blipFill>
        <p:spPr>
          <a:xfrm>
            <a:off x="1928880" y="3929040"/>
            <a:ext cx="1985760" cy="24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00360" y="1643040"/>
            <a:ext cx="415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Анимизм – это обряды и верования, основанные на вере в существование духов и душ, населяющих мир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Documents and Settings\ADMIN\Мои документы\Старые документы\Мои документы\Лена\Религии России\картинки\анимизм.JPG"/>
          <p:cNvPicPr/>
          <p:nvPr/>
        </p:nvPicPr>
        <p:blipFill>
          <a:blip r:embed="rId2"/>
          <a:stretch/>
        </p:blipFill>
        <p:spPr>
          <a:xfrm>
            <a:off x="214200" y="1785960"/>
            <a:ext cx="385776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Picture 3" descr="C:\Documents and Settings\ADMIN\Мои документы\Старые документы\Мои документы\Лена\Религии России\картинки\Dusha.jpg"/>
          <p:cNvPicPr/>
          <p:nvPr/>
        </p:nvPicPr>
        <p:blipFill>
          <a:blip r:embed="rId3"/>
          <a:srcRect l="7086" t="5670" r="7086" b="5670"/>
          <a:stretch/>
        </p:blipFill>
        <p:spPr>
          <a:xfrm>
            <a:off x="2714760" y="4214880"/>
            <a:ext cx="1857240" cy="239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928760" y="1214280"/>
            <a:ext cx="40006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ытаясь защитить себя от грозных сил природы, неудач человек создает культы – обряды и верования, в основе которых лежит почитание какого-либо объе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086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Documents and Settings\ADMIN\Мои документы\Мои рисунки\image.jpg"/>
          <p:cNvPicPr/>
          <p:nvPr/>
        </p:nvPicPr>
        <p:blipFill>
          <a:blip r:embed="rId2"/>
          <a:stretch/>
        </p:blipFill>
        <p:spPr>
          <a:xfrm>
            <a:off x="285840" y="1285920"/>
            <a:ext cx="278604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Picture 3" descr="C:\Documents and Settings\ADMIN\Мои документы\Мои рисунки\0a259c4295f3307cf4dcb2d4631d1d01.jpeg"/>
          <p:cNvPicPr/>
          <p:nvPr/>
        </p:nvPicPr>
        <p:blipFill>
          <a:blip r:embed="rId3"/>
          <a:stretch/>
        </p:blipFill>
        <p:spPr>
          <a:xfrm>
            <a:off x="2357280" y="3714840"/>
            <a:ext cx="278640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3286080" y="1285920"/>
            <a:ext cx="178596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2" descr="C:\Documents and Settings\ADMIN\Мои документы\Мои рисунки\3b5a11b991c5e3a67d57bee3d82.jpg"/>
          <p:cNvPicPr/>
          <p:nvPr/>
        </p:nvPicPr>
        <p:blipFill>
          <a:blip r:embed="rId5"/>
          <a:stretch/>
        </p:blipFill>
        <p:spPr>
          <a:xfrm>
            <a:off x="285840" y="3714840"/>
            <a:ext cx="185724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929200" y="1523880"/>
            <a:ext cx="32148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верования, связанны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с погребением умерших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ADMIN\Мои документы\Мои рисунки\ancient-tomb-5.jpg"/>
          <p:cNvPicPr/>
          <p:nvPr/>
        </p:nvPicPr>
        <p:blipFill>
          <a:blip r:embed="rId2"/>
          <a:stretch/>
        </p:blipFill>
        <p:spPr>
          <a:xfrm>
            <a:off x="3357720" y="1500120"/>
            <a:ext cx="2657160" cy="478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7" name="Picture 4" descr="C:\Documents and Settings\ADMIN\Мои документы\Мои рисунки\1556157.jpg"/>
          <p:cNvPicPr/>
          <p:nvPr/>
        </p:nvPicPr>
        <p:blipFill>
          <a:blip r:embed="rId3"/>
          <a:stretch/>
        </p:blipFill>
        <p:spPr>
          <a:xfrm>
            <a:off x="285840" y="4000680"/>
            <a:ext cx="2928960" cy="228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C:\Documents and Settings\ADMIN\Мои документы\Мои рисунки\image.jpg"/>
          <p:cNvPicPr/>
          <p:nvPr/>
        </p:nvPicPr>
        <p:blipFill>
          <a:blip r:embed="rId4"/>
          <a:stretch/>
        </p:blipFill>
        <p:spPr>
          <a:xfrm>
            <a:off x="357120" y="1500120"/>
            <a:ext cx="271476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714560" y="1523880"/>
            <a:ext cx="3971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fac9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Обряды и поверья, связанные с охотничьим и рыболовным промыслом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Documents and Settings\ADMIN\Мои документы\Мои рисунки\0a259c4295f3307cf4dcb2d4631d1d01.jpeg"/>
          <p:cNvPicPr/>
          <p:nvPr/>
        </p:nvPicPr>
        <p:blipFill>
          <a:blip r:embed="rId2"/>
          <a:stretch/>
        </p:blipFill>
        <p:spPr>
          <a:xfrm>
            <a:off x="357120" y="1357200"/>
            <a:ext cx="385776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C:\Documents and Settings\ADMIN\Мои документы\Мои рисунки\etn3.jpg"/>
          <p:cNvPicPr/>
          <p:nvPr/>
        </p:nvPicPr>
        <p:blipFill>
          <a:blip r:embed="rId3"/>
          <a:stretch/>
        </p:blipFill>
        <p:spPr>
          <a:xfrm>
            <a:off x="2786040" y="4714920"/>
            <a:ext cx="29289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785840" y="1214280"/>
            <a:ext cx="3900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omic Sans MS"/>
              </a:rPr>
              <a:t>Поклонение тем или иным животным, вера в их особую связь с миром духов и бог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933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Мои документы\Мои рисунки\21c6edda1f82.jpg"/>
          <p:cNvPicPr/>
          <p:nvPr/>
        </p:nvPicPr>
        <p:blipFill>
          <a:blip r:embed="rId2"/>
          <a:stretch/>
        </p:blipFill>
        <p:spPr>
          <a:xfrm>
            <a:off x="5000760" y="4500720"/>
            <a:ext cx="357192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4" descr="C:\Documents and Settings\ADMIN\Мои документы\Мои рисунки\1240829271_rrrs.jpg"/>
          <p:cNvPicPr/>
          <p:nvPr/>
        </p:nvPicPr>
        <p:blipFill>
          <a:blip r:embed="rId3"/>
          <a:stretch/>
        </p:blipFill>
        <p:spPr>
          <a:xfrm>
            <a:off x="357120" y="1285920"/>
            <a:ext cx="207180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2" descr="C:\Documents and Settings\ADMIN\Мои документы\Мои рисунки\1215424189_3.jpg"/>
          <p:cNvPicPr/>
          <p:nvPr/>
        </p:nvPicPr>
        <p:blipFill>
          <a:blip r:embed="rId4"/>
          <a:stretch/>
        </p:blipFill>
        <p:spPr>
          <a:xfrm>
            <a:off x="2643120" y="2071800"/>
            <a:ext cx="221472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9:10:28Z</dcterms:modified>
  <cp:revision>95</cp:revision>
  <dc:subject/>
  <dc:title>Религиозные представления первобытной эпохи. Тотемизм. Анимизм. Фетишизм.</dc:title>
</cp:coreProperties>
</file>